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43B-0459-435B-B4D0-2D86B2D5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DDF-3390-4456-86CA-A8E43543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A47-752F-41F7-8233-08D74D96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3BBF-4ECE-4AF5-A628-E11730A9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578-1C16-426D-9D1F-A5024CE0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741-F967-4455-BC78-B1F372E8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67F-FA09-4225-ADEE-03530AE4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33C-5B4C-49E9-A322-73401423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3E4-3444-4BC5-B763-D225E36F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9B1-C132-48E4-9773-D3A3090E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C33-3561-4DC1-BF38-8B8919D8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8A1-D785-4BB9-8137-A42F26C0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F4F3-0286-40DE-B724-3DC4F9298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3480" y="0"/>
            <a:ext cx="506268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29200" y="0"/>
            <a:ext cx="4114800" cy="86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موضعك المقدس  شاهدتك حتى أعاين بهاء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 أطيب من الحياة رحمتك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ياك تسبح شفتا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ليك اشتاق، اشتاق جسدي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ليك ظمئت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أرض قاحلة يابسة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لا ماء في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90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19720" y="0"/>
            <a:ext cx="4724280" cy="86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ني أحمدك مدى حي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وباسمك أرفع 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 إني أرنم لك مبتهج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أهلل في ظل جناح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ليك اشتاق، اشتاق جس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ليك ظمئت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أرض قاحلة يابس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لا ماء في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99160" y="228600"/>
            <a:ext cx="9923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أذكرك على فراشي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لأنك كنت عوناً ل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ترفعني يمينك تسند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تتعلق نفسي في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6:07:29Z</dcterms:created>
  <dc:creator>USER</dc:creator>
  <dc:description/>
  <dc:language>en-US</dc:language>
  <cp:lastModifiedBy>HANI SAFI</cp:lastModifiedBy>
  <dcterms:modified xsi:type="dcterms:W3CDTF">2003-04-11T06:49:53Z</dcterms:modified>
  <cp:revision>3</cp:revision>
  <dc:subject/>
  <dc:title>PowerPoint Presentation</dc:title>
</cp:coreProperties>
</file>